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F6B5-20C0-48AE-B572-B2ACF694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496-9829-4EAF-B5DA-BC989936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FDF89-EF7F-40F3-852F-013BCFAF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90F8E-BBE1-48CE-8DCE-510BDB62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C3B9E-C215-469A-B2EF-94936557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09023-3CD4-4CDA-8C2B-971733FC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24C2B-D081-41F3-82E9-74AE4815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A1EEB-84B7-47D9-9C34-1B49405F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AB086-E70B-4A43-B80E-2D54C03D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941D6-CAA4-4E56-BC04-AD8494AA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E5119-33A9-4809-9FCF-B3E7960C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78CE5-04CF-4A8A-A418-10455E5C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848-4C0C-4E28-89A1-F55C8647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C9B46-7BAD-47B9-A589-F5FD0FB8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24A9F-7310-48C4-BF4D-C09ACA24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BDEE4-AE25-4E73-94BF-865AC0C6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CE6D1-D9EF-44AD-85AD-8AFC7958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F8B15-420D-44C8-A8A0-14A201BD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6FD51-DFFE-47D8-95DC-2E5C0C8E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300F9-A42D-4D34-9A6E-B6162DD3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17EC4-3B8F-45EA-980C-9BCA618B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AD814-4DEF-4087-88B3-8522900B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93424-6B32-4DF1-BD88-3172B838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9C71-C81B-4D28-9960-FB83A6CA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774CA-69F3-4503-B91F-B6B7E601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DF5D5-2A29-419F-83F8-C0519244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404A5-8121-4E5C-B701-1DC08D47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834B1-F45B-43D3-A10F-25F649E2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65FD7-9342-44EE-AF38-1E59C6E8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2AA44-05DB-410B-BE7E-216A3A3B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9D2AF-72FB-4F46-A38F-68EE12D6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5A64D-C280-41E3-BC93-9D7DD33F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3A340-9297-41DA-9B8F-4845B87F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5E0B4-9A60-4786-B9C3-90546A63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B1FA-9687-4F71-BB76-1B984C4D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3B55B-F12C-44E1-A44C-2856C09F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FD53B-588C-4D1E-A2DB-F4E75FF4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8EADC-44E2-4EE8-B913-CE9DE22D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5B049-EB6A-4B96-A57B-897A894A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153F2-DC32-408E-B0C9-93FDF8F0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33518-2F44-4BC3-9EFD-9FAD592A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90604-EFD9-49E1-AA58-674DF840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E7043-D37C-412A-9F2F-D5049E19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57976-825B-4BA4-85FD-3B79BE56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ADC73-AFB6-4B00-8C1A-72D313C7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2F90-938B-4294-B892-C325D51E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DE78D-EAE9-4FE0-A586-A509769E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F9ECE-A740-4AA0-B141-24E671FE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7EDC7-8A76-4B13-9D3F-ACCFD18F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136DC-3836-4554-B99C-A1318175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1190F-2500-4AA2-B826-A68FEA6C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EEDF1-7687-48C0-9BB2-D0C299B1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2C8B8-5E62-4D69-A34A-6540DA19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D098C5-3581-41C6-BE19-E2C6715D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B0A4C-72E1-4259-A0FF-4004CEA1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827CE-02D2-4A62-B5B4-26059F09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CDEC-14FE-4C4A-A4A8-A9975129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7D620-1BBC-4D76-B07D-76F00D88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3B32D-2A28-46F5-920D-69C79432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5A360B-94E2-4DBD-BD67-52DE5F22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DAF0D-4E34-43DC-B64D-0155E3FC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7BD5A-F319-4D24-B191-E7F5E33D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C8AB7-A475-41EC-ACE0-5A8A4259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D9A51-06C4-4AF1-AE3B-7207D9DA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4EF99E-54F4-417F-9987-4084625A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278C7B-F858-47F1-BD1C-98B55EB6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6F817-91F3-4BE2-8F26-0958A192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4854-B428-46BC-8DBF-FD325158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1C0517-B7EF-49F8-B798-0D6EAF0F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54D462-D894-45A6-A3D4-CF58388D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E889B-0A56-4D6F-A780-A9F497FC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09509D-0E66-4046-BE29-D521AD97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AFC2D-9155-4BB5-832D-15F4BDC6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6732E0-E557-4AD9-9B02-C5DB4C26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73D721-6772-45FA-B3A5-C1B152C4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1FD4CD-9EAF-4E5F-AAEF-219D6486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9CC357-55BB-4646-B09A-77172FF5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C22856-B210-45E9-8F95-B43EF593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BFF5-8441-413D-8EBF-1A956617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610068-7539-4861-BE3F-B3A28645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1BD91C-3F72-41E8-B4EB-16C18005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814767-3360-497F-818B-59952676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D9699-08C6-4115-BEE4-DE4DDCB2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25CDAF-1F3F-411C-A7D4-4F236157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E85948-773E-4BC6-884C-D408BABA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6172F9-3D1D-4221-B2D4-8E89496F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729C00-4CAD-4C8D-9B5F-2EF90140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FFD181-E98A-4F4E-B767-B2F4780A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6F6936-2EE2-45C0-AA5F-78A26C1E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4B3E-2A13-4E44-9BE0-68E6B4DB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5B3787-6C9E-4A32-830A-AB7F09FB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24D284-C824-48C0-8866-31E5C0E7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1BBC73-3CD7-4E83-9B5E-A4294C51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CF0C21-0BCD-43F2-BB70-1316C175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CB82A2-91EB-4BF9-AACB-7248DED5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F6FF34-ED44-4145-8F61-8E487C17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418FAF-C22F-4079-9634-5C207DBC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964ABE-1DFB-4ED4-8426-45025AAA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D6AF3D-D7A6-4FC5-B3B7-CCC655F7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C36F37-E9C6-467A-A218-BBBDE39C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09E8-0429-4C2B-A462-92F3B3B2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AA168D-1AE3-44D2-AD4C-269A99B0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416F89-3672-49F3-B099-DBCA1500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8801FF-CACA-4953-831A-78A87F15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AC7728-36F2-4506-9AA7-AC33B6FD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733B36-0291-4F3B-BD5D-20771FDA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43EB98-0650-47D6-ABB7-823A4801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4B339A-9838-4C87-8DA8-5B160739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69B33B-A779-43AB-984F-8BF90289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B1E0AD-070D-4F21-80AD-5EF32A86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8A1737-20C7-4B7F-93B3-0F50ED9C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EE99-296E-4B17-A2F7-08A15D23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7995-26D1-4589-87FA-EFAA508A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1AED6F-69CF-4BE8-8294-84082A10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5F5130-0124-4E12-B21F-F871575E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01DED0-FB6A-4227-9A6C-248C69E3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9FD8B8-0591-4870-A6C9-753D8DFC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39CF8C-C579-4520-B3E6-F94B2CF8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912163-D967-4631-8700-E5715B2E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7DA43C-4C97-4BB9-A8A8-E6CB4363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C5BDA2-45BA-4A2D-9F91-B8C74CD3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5120AB-8C3A-41CF-AED3-535A6B76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2DC246-975A-4C67-ACE4-2EDCF005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B35D-1393-4AFB-9AE7-58C2120A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DFF02E-8147-4918-93D3-813A34F1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BEF876-5CAB-4A8E-A3A2-D84B4AAB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1FB7AB-C777-4840-9CC5-E3B38B8F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0728FB-BA57-4CFB-A32F-A6746043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C4E778-A27C-441D-8F1F-6A899CB7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882816-DE2E-4191-8036-6CCE9966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6628F0-278A-4C37-8498-8575FA56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1FD3B9-BE3F-448B-A5DA-6620E906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4D99DC-51F4-438A-9E49-95837B3A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445EAA-03A9-4176-A71A-77FCD3DC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BE48-90F2-4E4C-9CCD-702DF680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C5DF23-EDB3-40E7-8F48-28303335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66981C-B221-4400-9DE7-40C4DFB0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D1AAE7-0E5D-4E92-B019-B775A87C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5582C0-6F0C-4DB2-A00F-EE37F176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44BF94-5DD6-4B41-96B1-AC9B4A75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A9B697-F65C-4A92-8AF0-E2FA8DAF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52EF1A-27B8-4582-8A2E-3290C845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44286E-EDD9-4C13-9510-464288BD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43ABB5-2F00-458E-8D0B-69F1A52A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087C92-9F48-4FCC-9E83-1E08EB4C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3D95-5856-46F5-8671-6CA20952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565CB1-4226-4977-95F2-D046ACEC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405462-4F83-4738-B044-F422D70E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33D20E-3ADF-4C5A-BC32-E20570F2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0162C8-8066-4E72-9588-6B0821C0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1DEFD3-5E28-437B-A878-6D736453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5E64FD-7B10-4031-B33E-3B5EFCD9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3A3464-4754-4D10-84C4-69759FEE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A01B7A-66A8-4636-860A-0A6F7F0C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44BCDE-EE53-4285-A7A8-62820DF6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21B57D-F3FC-4687-91F5-7D9D64EF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7CAA-ECE7-4611-A24D-47A16F74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590F69-3528-472A-92E7-21056898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4F495D-4903-44D7-8E9A-8B588072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947D2D-348A-47C4-AB79-EEFC363D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D32F19-11B4-4BC1-A1A6-3F3698D5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57BB29-71CB-4046-9D63-17078FE6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10ABED-08CF-4924-963E-28AFE0F0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C48ED9-6B3E-445B-8B47-C67B0C38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BADAD6-3BD6-4F43-B0B2-F0786437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8114EC-5CFE-47CF-B28C-E66D1AD5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407FF3-5989-4B3F-826D-3F7B14B6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5873C-57B5-4BE8-A05E-F5316038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338B27-023C-427E-B0F3-B3CA25F9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074AEF-611F-4D87-B66C-B2AE1025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782EA7-D7C0-4E08-98D7-84ADA7F6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AFB05-B474-45F7-9E54-DB3D8A05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9ADCC-88BE-470A-801D-23F0CC5E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43471-0055-4C92-809B-6383926A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E2396-3662-41CD-88E6-AD9401A7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3E94-FA50-440D-BB57-9900EEA4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44D95-1C07-49F9-8A4B-9E5FB836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CC84B-AA11-4BE1-A2CE-B9E15C39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7455F-DE65-4159-9F27-6838837D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64356-182E-4D72-B0FB-7973B015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514F8-F60C-40C0-A8C3-A8640F0D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7A55D-DA4A-4296-84CD-44A909DC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5C0AC-2BBD-4CCD-AE75-580E2433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8C0BD-94CA-4E34-8BF5-F4A51145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8377E-A058-4201-845B-8C4BDDD2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113EC-06CE-4B50-B4C9-FA15E0FE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68F2-D962-43C8-93A4-009C2285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96053-0010-4388-A3B4-865A4948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6DB39-F794-4D9F-A2F8-E6E043FA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3B9A3-5E07-4E7D-AD24-DBD2B935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C9405-E849-4489-86A7-EC9CBCA5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64564-EECC-436D-BCF9-0CBDB09A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AFE38-8F60-4C0E-97F1-CA2F2F83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17841-C50C-4FEA-B160-92E91A49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A9D43-6D66-4A07-BE1E-044BCC7E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6EA1D-737E-4CA9-8F15-86F63F09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758DA-4C2D-4800-85ED-AB769763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B66-156C-41E8-984E-38ABEA00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7525D-06B2-45BA-B3CE-65028B01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3F1B2-4C89-4C86-A611-93CA83A0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4A801-849B-4ACD-A84A-498EE36E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BB04D-D155-4BE3-ADC3-D2BDA3E5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33929-B1BC-44CA-8C87-9B1B03FF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F3186-5E3C-4203-9170-52A51AEE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6BAEA-C164-45C4-8C96-EA3042CF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F8B93-DA6D-44C2-9703-20E30824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5B6F9-9A70-482F-8AC9-5F31A4E6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CDD05-4937-445A-8196-FD19E866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9B5-4928-4F96-813B-7A3CE467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F6EE1-1E51-40A2-8185-CDDCC3A6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4434F-85A6-4242-932A-0DD5817B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93944-9E9D-447A-8B05-F41675A2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BE8F8-7AED-4F61-8097-3373F41D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DF491-D9EB-443D-9F53-181BD347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8E4EA-9624-4C04-9805-5DFB92F1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2BEF7-B598-4D70-B2B0-E557449D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81C6F-99DE-4F61-B8D6-8D5EE908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D7DCB-3D18-4234-8D6D-E571285A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5DA61-698A-4582-A8D5-B93CA71C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87A-9531-47E3-AECE-006C4E54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2AFAB-9C6D-4EF0-A406-D8D2FE12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681DD-4A75-4B7E-B699-AD8E2756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1F940-4904-4BE8-9778-9D6CA203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20CEF-37AB-473A-BDA3-5A310CC8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E7789-A09B-458C-AA3C-E5959F71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52EBC-A8BE-4D47-9AEE-D9CCEBF5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4269F-22AC-4BCD-9BDA-0DB0F755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D8945-F4FF-4A79-9C09-71C7B9CA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2FF81-CCF2-431B-90BD-9C7CBF7B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916A0-13AF-4BD7-9623-085E4230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13E-4863-4501-961A-E1B3C135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CBB12-1B37-4D02-968B-FEA26DC9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8B4A0-2802-4128-8AE4-C3577C70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5B26C-18DE-41FD-A8A3-89A8D950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AE8E0-F305-4001-A8E5-BC47DCFE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4A5C4-452B-4BE1-8A7E-38FB8737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AE4E6-5081-4D8B-89D7-938E7265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4A553-0814-4AE8-B478-0ABA9C56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C7186-88F7-4FE8-9941-3995DD48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3E31E-5C6A-4AB1-99AC-A6C31180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E74DA-88EB-4654-AC94-C01DE5B7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730-3FDE-4CC7-BBC3-D97D982F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B03A5-3361-446C-9CD5-026F713A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2EFF8-7E20-403B-9174-E09665D8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C3149-1FBF-4B41-826A-0AD29BDA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22B64-B283-4C9A-9C18-0A4E9953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61E1D-4C86-40EB-B828-74AF9DA3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4FFDC-FAE1-4518-A818-9A69CB4F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74AB1-3191-4F7C-935E-F5C4FFE4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6C00E-4030-4CFF-8045-F0A4C97E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399CC-560C-4756-9059-1926703B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AD728-7BB5-4E52-B8B1-064D0C22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A2F9-F092-4BF4-9E9F-C5AA15259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86B7-A045-444C-BCE3-A74019A51E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B5BC-BECB-45F0-9409-0583E42C8F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A9DC-91E7-43F8-919B-4EBFF8F834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7A18-50F0-4481-97B9-F632B6A37E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859C-9435-483F-A43F-E68ABEA69B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ACB6-D799-4E07-B4CA-F44E8AEC77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2DEA-CDD4-44B3-9813-1717CF36C2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6B56-2FCD-4482-A49A-20B517EF9E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A3E9-8DA2-4582-9A92-E41A82118F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D793-F102-41A2-B771-E2228AEA6E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81F9-028F-4649-BD60-944D9653B7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6BBD-4DFA-480B-86BB-8A91A1F17D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068F-91E8-4610-8D1E-734EB5E44D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9EF0-75B6-4C8E-B1CB-D49828E503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0A4E-B425-4FC5-89BF-9EE216EBC6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3D25-3841-441B-BF04-F1AF46CE64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B1AB-396C-4DFB-98FB-FB6AC02634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83C1-662A-4284-97AC-E16CF65CD8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8CD9-19D4-4DBD-BC81-5281C7E554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A4FF-6D25-4378-ADEB-222BD14D87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B033-3486-4B50-881C-76358E7B1F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A557-6352-433C-BB92-BE734C16B9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1E88-7D15-4ACE-A93C-9C3EACBAC5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BC6F-A1E0-487F-BE59-46BEF6E0A9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9BED-3B0D-4ED7-80D6-45C01AFAFB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612B-232B-4E18-B748-3CF3B29E25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3EDD-B486-4888-B58D-75A1390BC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DA52-57F9-4F4B-BA00-B5F0346A5B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176E-A22E-4F65-B0C0-E86DC317E3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69B6-EC78-4F12-AA76-B610A8E20E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86F0-86E4-46CE-9BF1-396B351D4C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B0B5-5482-4FB1-B9AD-E1596D84CD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34F4-05E7-464A-B8A5-DA9531F596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F69B-6694-4719-8AE0-AB17AA4367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D187-AA7D-402A-B677-E5A8F78148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E62D-A067-4D78-9AA7-A4623F5696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57ED-205A-4419-92D2-F44C98055C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05EA-462D-4D7C-AE1A-40D5A824B2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12F4-E88B-49FC-9A82-990C250570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361800" y="3000240"/>
            <a:ext cx="87822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"/>
          <p:cNvPicPr/>
          <p:nvPr/>
        </p:nvPicPr>
        <p:blipFill>
          <a:blip r:embed="rId1"/>
          <a:stretch/>
        </p:blipFill>
        <p:spPr>
          <a:xfrm>
            <a:off x="390600" y="1604880"/>
            <a:ext cx="8362800" cy="3648240"/>
          </a:xfrm>
          <a:prstGeom prst="rect">
            <a:avLst/>
          </a:prstGeom>
          <a:ln w="0">
            <a:noFill/>
          </a:ln>
        </p:spPr>
      </p:pic>
      <p:sp>
        <p:nvSpPr>
          <p:cNvPr id="1053" name="矩形 2"/>
          <p:cNvSpPr/>
          <p:nvPr/>
        </p:nvSpPr>
        <p:spPr>
          <a:xfrm>
            <a:off x="1285920" y="2025720"/>
            <a:ext cx="7215120" cy="396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3"/>
          <p:cNvSpPr/>
          <p:nvPr/>
        </p:nvSpPr>
        <p:spPr>
          <a:xfrm>
            <a:off x="928800" y="2500200"/>
            <a:ext cx="342900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4"/>
          <p:cNvSpPr/>
          <p:nvPr/>
        </p:nvSpPr>
        <p:spPr>
          <a:xfrm>
            <a:off x="1285920" y="3929040"/>
            <a:ext cx="728676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5"/>
          <p:cNvSpPr/>
          <p:nvPr/>
        </p:nvSpPr>
        <p:spPr>
          <a:xfrm>
            <a:off x="928800" y="4429080"/>
            <a:ext cx="2571480" cy="382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96200" cy="601992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928800" y="250020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928800" y="478620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2" descr=""/>
          <p:cNvPicPr/>
          <p:nvPr/>
        </p:nvPicPr>
        <p:blipFill>
          <a:blip r:embed="rId1"/>
          <a:stretch/>
        </p:blipFill>
        <p:spPr>
          <a:xfrm>
            <a:off x="442800" y="1281240"/>
            <a:ext cx="8258400" cy="429552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928800" y="135720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928800" y="371484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"/>
          <p:cNvPicPr/>
          <p:nvPr/>
        </p:nvPicPr>
        <p:blipFill>
          <a:blip r:embed="rId1"/>
          <a:stretch/>
        </p:blipFill>
        <p:spPr>
          <a:xfrm>
            <a:off x="471600" y="1752480"/>
            <a:ext cx="8200800" cy="3353040"/>
          </a:xfrm>
          <a:prstGeom prst="rect">
            <a:avLst/>
          </a:prstGeom>
          <a:ln w="0">
            <a:noFill/>
          </a:ln>
        </p:spPr>
      </p:pic>
      <p:sp>
        <p:nvSpPr>
          <p:cNvPr id="1030" name="矩形 2"/>
          <p:cNvSpPr/>
          <p:nvPr/>
        </p:nvSpPr>
        <p:spPr>
          <a:xfrm>
            <a:off x="1000080" y="1857240"/>
            <a:ext cx="428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3"/>
          <p:cNvSpPr/>
          <p:nvPr/>
        </p:nvSpPr>
        <p:spPr>
          <a:xfrm>
            <a:off x="1000080" y="371484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239320" cy="5877000"/>
          </a:xfrm>
          <a:prstGeom prst="rect">
            <a:avLst/>
          </a:prstGeom>
          <a:ln w="0">
            <a:noFill/>
          </a:ln>
        </p:spPr>
      </p:pic>
      <p:sp>
        <p:nvSpPr>
          <p:cNvPr id="1033" name="矩形 2"/>
          <p:cNvSpPr/>
          <p:nvPr/>
        </p:nvSpPr>
        <p:spPr>
          <a:xfrm>
            <a:off x="2714760" y="2928960"/>
            <a:ext cx="157140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3"/>
          <p:cNvSpPr/>
          <p:nvPr/>
        </p:nvSpPr>
        <p:spPr>
          <a:xfrm>
            <a:off x="4786200" y="3357720"/>
            <a:ext cx="1785960" cy="374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4"/>
          <p:cNvSpPr/>
          <p:nvPr/>
        </p:nvSpPr>
        <p:spPr>
          <a:xfrm>
            <a:off x="3379680" y="4343400"/>
            <a:ext cx="157176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5"/>
          <p:cNvSpPr/>
          <p:nvPr/>
        </p:nvSpPr>
        <p:spPr>
          <a:xfrm>
            <a:off x="2143080" y="4857840"/>
            <a:ext cx="171468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6"/>
          <p:cNvSpPr/>
          <p:nvPr/>
        </p:nvSpPr>
        <p:spPr>
          <a:xfrm>
            <a:off x="3317760" y="5775480"/>
            <a:ext cx="2040120" cy="374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8286480" cy="30859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2"/>
          <a:stretch/>
        </p:blipFill>
        <p:spPr>
          <a:xfrm>
            <a:off x="500040" y="3857760"/>
            <a:ext cx="8248680" cy="2419200"/>
          </a:xfrm>
          <a:prstGeom prst="rect">
            <a:avLst/>
          </a:prstGeom>
          <a:ln w="0">
            <a:noFill/>
          </a:ln>
        </p:spPr>
      </p:pic>
      <p:sp>
        <p:nvSpPr>
          <p:cNvPr id="1040" name="矩形 3"/>
          <p:cNvSpPr/>
          <p:nvPr/>
        </p:nvSpPr>
        <p:spPr>
          <a:xfrm>
            <a:off x="4429080" y="1428840"/>
            <a:ext cx="1571760" cy="374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4"/>
          <p:cNvSpPr/>
          <p:nvPr/>
        </p:nvSpPr>
        <p:spPr>
          <a:xfrm>
            <a:off x="1797120" y="2414520"/>
            <a:ext cx="114300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"/>
          <p:cNvSpPr/>
          <p:nvPr/>
        </p:nvSpPr>
        <p:spPr>
          <a:xfrm>
            <a:off x="4357800" y="3357720"/>
            <a:ext cx="1571400" cy="374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"/>
          <p:cNvSpPr/>
          <p:nvPr/>
        </p:nvSpPr>
        <p:spPr>
          <a:xfrm>
            <a:off x="7215120" y="4357800"/>
            <a:ext cx="1143000" cy="374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7"/>
          <p:cNvSpPr/>
          <p:nvPr/>
        </p:nvSpPr>
        <p:spPr>
          <a:xfrm>
            <a:off x="6715080" y="5286240"/>
            <a:ext cx="157176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357120" y="720720"/>
            <a:ext cx="832500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277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2" descr=""/>
          <p:cNvPicPr/>
          <p:nvPr/>
        </p:nvPicPr>
        <p:blipFill>
          <a:blip r:embed="rId1"/>
          <a:stretch/>
        </p:blipFill>
        <p:spPr>
          <a:xfrm>
            <a:off x="419040" y="1490760"/>
            <a:ext cx="8305920" cy="387648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1143000" y="2500200"/>
            <a:ext cx="542916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1285920" y="3429000"/>
            <a:ext cx="7358040" cy="388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4"/>
          <p:cNvSpPr/>
          <p:nvPr/>
        </p:nvSpPr>
        <p:spPr>
          <a:xfrm>
            <a:off x="928800" y="3929040"/>
            <a:ext cx="164304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5"/>
          <p:cNvSpPr/>
          <p:nvPr/>
        </p:nvSpPr>
        <p:spPr>
          <a:xfrm>
            <a:off x="1143000" y="4857840"/>
            <a:ext cx="4714920" cy="388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18:2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